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.jpeg" ContentType="image/jpeg"/>
  <Override PartName="/ppt/media/image21.png" ContentType="image/png"/>
  <Override PartName="/ppt/media/image69.png" ContentType="image/png"/>
  <Override PartName="/ppt/media/image67.jpeg" ContentType="image/jpeg"/>
  <Override PartName="/ppt/media/image17.png" ContentType="image/png"/>
  <Override PartName="/ppt/media/image20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5.png" ContentType="image/png"/>
  <Override PartName="/ppt/media/image28.png" ContentType="image/png"/>
  <Override PartName="/ppt/media/image70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4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5.gif" ContentType="image/gif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857-6FCB-4AFC-ACF6-AAE0643B7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6321-83A4-4F4D-B025-35F61361E9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379-3F25-45AA-BF1B-1FD732CD07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8A3-F85E-4C0E-A72A-1B4C3AF4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2FA-634E-4F3D-9D3C-816762A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9FF-A175-4004-8AFF-9E2BF430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B94-3138-4F3A-93F3-2AFF6EB0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DE2-B601-4B17-BACB-B92898DA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B2C-1CBB-4374-8C4A-9C6506F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345-A27A-48E1-8C42-286A0501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186-4AF5-4B24-9554-6BADE02C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689-3F22-44AE-B71D-530467CF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175-3D7F-4E75-BA68-00D6BAC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CD8-1B19-449B-A1F2-7B5D080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DE6-FCCE-42B2-A39E-0EBAAD95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128-3EF6-4F50-8E71-91214B3CE5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4371-6443-4C62-A065-2A28DC7D9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image" Target="../media/image58.jpe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оставил: учитель-логопед С(к)ОШ №5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III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вида г.Кыштыма Челябинской области Сырейщикова А.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1"/>
          <a:stretch/>
        </p:blipFill>
        <p:spPr>
          <a:xfrm>
            <a:off x="7929720" y="357120"/>
            <a:ext cx="43632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2"/>
          <a:stretch/>
        </p:blipFill>
        <p:spPr>
          <a:xfrm>
            <a:off x="7929720" y="2052720"/>
            <a:ext cx="42840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:\Documents and Settings\Aida\Рабочий стол\НОвая ГРАФИКА сборник\КАРТИНКИ СБОРНИК_ школьные\Ballonnen 1 (8).gif"/>
          <p:cNvPicPr/>
          <p:nvPr/>
        </p:nvPicPr>
        <p:blipFill>
          <a:blip r:embed="rId3"/>
          <a:stretch/>
        </p:blipFill>
        <p:spPr>
          <a:xfrm>
            <a:off x="7896240" y="4114800"/>
            <a:ext cx="48564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63196.gif"/>
          <p:cNvPicPr/>
          <p:nvPr/>
        </p:nvPicPr>
        <p:blipFill>
          <a:blip r:embed="rId4"/>
          <a:stretch/>
        </p:blipFill>
        <p:spPr>
          <a:xfrm>
            <a:off x="214200" y="3143160"/>
            <a:ext cx="1395360" cy="2071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1920960" y="2243160"/>
            <a:ext cx="5486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F8E-4524-45E6-8D8F-13FC1DE1B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Стр. 013.jpg"/>
          <p:cNvPicPr/>
          <p:nvPr/>
        </p:nvPicPr>
        <p:blipFill>
          <a:blip r:embed="rId1"/>
          <a:stretch/>
        </p:blipFill>
        <p:spPr>
          <a:xfrm>
            <a:off x="1285920" y="1928880"/>
            <a:ext cx="67863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624-C3AB-46E2-B45F-F01D59DC2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Стр. 014.jpg"/>
          <p:cNvPicPr/>
          <p:nvPr/>
        </p:nvPicPr>
        <p:blipFill>
          <a:blip r:embed="rId1"/>
          <a:stretch/>
        </p:blipFill>
        <p:spPr>
          <a:xfrm>
            <a:off x="1500120" y="1857240"/>
            <a:ext cx="6107040" cy="27147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AA2-F4B0-4F30-8CCF-F1E01BB5D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2139840" y="628560"/>
            <a:ext cx="5010120" cy="1011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Стр. 016.jpg"/>
          <p:cNvPicPr/>
          <p:nvPr/>
        </p:nvPicPr>
        <p:blipFill>
          <a:blip r:embed="rId2"/>
          <a:stretch/>
        </p:blipFill>
        <p:spPr>
          <a:xfrm>
            <a:off x="1285920" y="1857240"/>
            <a:ext cx="6643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Стр. 015.jpg"/>
          <p:cNvPicPr/>
          <p:nvPr/>
        </p:nvPicPr>
        <p:blipFill>
          <a:blip r:embed="rId2"/>
          <a:stretch/>
        </p:blipFill>
        <p:spPr>
          <a:xfrm>
            <a:off x="1357200" y="1785960"/>
            <a:ext cx="6572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Стр. 017.jpg"/>
          <p:cNvPicPr/>
          <p:nvPr/>
        </p:nvPicPr>
        <p:blipFill>
          <a:blip r:embed="rId2"/>
          <a:stretch/>
        </p:blipFill>
        <p:spPr>
          <a:xfrm>
            <a:off x="1357200" y="2000160"/>
            <a:ext cx="6643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7" descr="Стр. 018.jpg"/>
          <p:cNvPicPr/>
          <p:nvPr/>
        </p:nvPicPr>
        <p:blipFill>
          <a:blip r:embed="rId2"/>
          <a:stretch/>
        </p:blipFill>
        <p:spPr>
          <a:xfrm>
            <a:off x="1643040" y="1785960"/>
            <a:ext cx="6786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Стр. 019.jpg"/>
          <p:cNvPicPr/>
          <p:nvPr/>
        </p:nvPicPr>
        <p:blipFill>
          <a:blip r:embed="rId2"/>
          <a:stretch/>
        </p:blipFill>
        <p:spPr>
          <a:xfrm>
            <a:off x="1571760" y="2000160"/>
            <a:ext cx="6426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Стр. 020.jpg"/>
          <p:cNvPicPr/>
          <p:nvPr/>
        </p:nvPicPr>
        <p:blipFill>
          <a:blip r:embed="rId2"/>
          <a:stretch/>
        </p:blipFill>
        <p:spPr>
          <a:xfrm>
            <a:off x="1857240" y="1857240"/>
            <a:ext cx="62866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6" descr=""/>
          <p:cNvPicPr/>
          <p:nvPr/>
        </p:nvPicPr>
        <p:blipFill>
          <a:blip r:embed="rId1"/>
          <a:stretch/>
        </p:blipFill>
        <p:spPr>
          <a:xfrm>
            <a:off x="1768320" y="560520"/>
            <a:ext cx="5735880" cy="101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71760" y="1857240"/>
            <a:ext cx="642456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6" descr=""/>
          <p:cNvPicPr/>
          <p:nvPr/>
        </p:nvPicPr>
        <p:blipFill>
          <a:blip r:embed="rId1"/>
          <a:stretch/>
        </p:blipFill>
        <p:spPr>
          <a:xfrm>
            <a:off x="1768320" y="347760"/>
            <a:ext cx="5748480" cy="1011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Стр. 032.jpg"/>
          <p:cNvPicPr/>
          <p:nvPr/>
        </p:nvPicPr>
        <p:blipFill>
          <a:blip r:embed="rId2"/>
          <a:stretch/>
        </p:blipFill>
        <p:spPr>
          <a:xfrm>
            <a:off x="1428840" y="1571760"/>
            <a:ext cx="6215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D5B-0F1E-4ACE-B279-AD031F4A1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4200" y="571680"/>
          <a:ext cx="8715600" cy="6072120"/>
        </p:xfrm>
        <a:graphic>
          <a:graphicData uri="http://schemas.openxmlformats.org/drawingml/2006/table">
            <a:tbl>
              <a:tblPr/>
              <a:tblGrid>
                <a:gridCol w="689040"/>
                <a:gridCol w="1604880"/>
                <a:gridCol w="1660680"/>
                <a:gridCol w="4761000"/>
              </a:tblGrid>
              <a:tr h="610200"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ъявление  слоговых ря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стема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Ба - 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Па - 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1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точное  и правильное воспроизведение в темпе предъявл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первый член воспроизводится правильно, второй уподобляется первому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 балла – неточное воспроизведение  обоих членов (перестановка слогов, их замена или пропуск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отказ от выполнения, полная невозможность воспроизведения пр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бщая оценка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-  задания для экспресс-диагно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 при проведении экспресс-диагностики: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Са - 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За - 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Жа - щ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Ща - ж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Са - 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Ша - 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Ла - 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Ра – 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Ма - на - 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На - ма -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Да - та - 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Та - да - 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Га - ка - 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Ка - га - 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За - са - 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Са - за - 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Жа - ша - ж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Ша - жа - 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Са - ша - 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Ша - са - 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Ца - са - 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Са - ца - 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Ча - тя - ч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Тя — ча - т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32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Ра - ла - 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Ла - ра - 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" name="Прямая соединительная линия 3"/>
          <p:cNvSpPr/>
          <p:nvPr/>
        </p:nvSpPr>
        <p:spPr>
          <a:xfrm>
            <a:off x="6215040" y="4214880"/>
            <a:ext cx="178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5"/>
          <p:cNvSpPr/>
          <p:nvPr/>
        </p:nvSpPr>
        <p:spPr>
          <a:xfrm>
            <a:off x="6143760" y="5286240"/>
            <a:ext cx="178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1"/>
          <a:stretch/>
        </p:blipFill>
        <p:spPr>
          <a:xfrm>
            <a:off x="201600" y="109440"/>
            <a:ext cx="87408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6" descr=""/>
          <p:cNvPicPr/>
          <p:nvPr/>
        </p:nvPicPr>
        <p:blipFill>
          <a:blip r:embed="rId1"/>
          <a:stretch/>
        </p:blipFill>
        <p:spPr>
          <a:xfrm>
            <a:off x="2305080" y="847800"/>
            <a:ext cx="5095800" cy="1011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Стр. 027.jpg"/>
          <p:cNvPicPr/>
          <p:nvPr/>
        </p:nvPicPr>
        <p:blipFill>
          <a:blip r:embed="rId2"/>
          <a:stretch/>
        </p:blipFill>
        <p:spPr>
          <a:xfrm>
            <a:off x="1785960" y="1928880"/>
            <a:ext cx="6000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7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6" descr=""/>
          <p:cNvPicPr/>
          <p:nvPr/>
        </p:nvPicPr>
        <p:blipFill>
          <a:blip r:embed="rId1"/>
          <a:stretch/>
        </p:blipFill>
        <p:spPr>
          <a:xfrm>
            <a:off x="2305080" y="847800"/>
            <a:ext cx="5095800" cy="101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071720" y="285768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5143680" y="2786040"/>
            <a:ext cx="1785600" cy="204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4"/>
          <a:stretch/>
        </p:blipFill>
        <p:spPr>
          <a:xfrm>
            <a:off x="3071880" y="2928960"/>
            <a:ext cx="1928880" cy="189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5"/>
          <a:stretch/>
        </p:blipFill>
        <p:spPr>
          <a:xfrm>
            <a:off x="7072200" y="1785960"/>
            <a:ext cx="13575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6" descr=""/>
          <p:cNvPicPr/>
          <p:nvPr/>
        </p:nvPicPr>
        <p:blipFill>
          <a:blip r:embed="rId1"/>
          <a:stretch/>
        </p:blipFill>
        <p:spPr>
          <a:xfrm>
            <a:off x="1871640" y="560520"/>
            <a:ext cx="5535720" cy="1012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Стр. 029.jpg"/>
          <p:cNvPicPr/>
          <p:nvPr/>
        </p:nvPicPr>
        <p:blipFill>
          <a:blip r:embed="rId2"/>
          <a:stretch/>
        </p:blipFill>
        <p:spPr>
          <a:xfrm>
            <a:off x="1571760" y="1857240"/>
            <a:ext cx="6429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6" descr=""/>
          <p:cNvPicPr/>
          <p:nvPr/>
        </p:nvPicPr>
        <p:blipFill>
          <a:blip r:embed="rId1"/>
          <a:stretch/>
        </p:blipFill>
        <p:spPr>
          <a:xfrm>
            <a:off x="1938240" y="487440"/>
            <a:ext cx="5535720" cy="1012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Стр. 030.jpg"/>
          <p:cNvPicPr/>
          <p:nvPr/>
        </p:nvPicPr>
        <p:blipFill>
          <a:blip r:embed="rId2"/>
          <a:stretch/>
        </p:blipFill>
        <p:spPr>
          <a:xfrm>
            <a:off x="6786720" y="17146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2071800" y="2000160"/>
            <a:ext cx="4572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6" descr=""/>
          <p:cNvPicPr/>
          <p:nvPr/>
        </p:nvPicPr>
        <p:blipFill>
          <a:blip r:embed="rId1"/>
          <a:stretch/>
        </p:blipFill>
        <p:spPr>
          <a:xfrm>
            <a:off x="2352600" y="847800"/>
            <a:ext cx="5011920" cy="1011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Стр. 021.jpg"/>
          <p:cNvPicPr/>
          <p:nvPr/>
        </p:nvPicPr>
        <p:blipFill>
          <a:blip r:embed="rId2"/>
          <a:stretch/>
        </p:blipFill>
        <p:spPr>
          <a:xfrm>
            <a:off x="2000160" y="1835280"/>
            <a:ext cx="6215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42472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57120" y="642960"/>
          <a:ext cx="8358120" cy="5792760"/>
        </p:xfrm>
        <a:graphic>
          <a:graphicData uri="http://schemas.openxmlformats.org/drawingml/2006/table">
            <a:tbl>
              <a:tblPr/>
              <a:tblGrid>
                <a:gridCol w="695520"/>
                <a:gridCol w="2896920"/>
                <a:gridCol w="4765680"/>
              </a:tblGrid>
              <a:tr h="662040">
                <a:tc gridSpan="2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ъявление сл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стема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кака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10"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правильное выполнение зад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замедленное послоговое воспроизвед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 балла – искажение звуко-слоговой структуры  сло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невыполнение задания.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Общая оценка: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-  задания для экспресс-диагно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 при проведении экспресс-диагностики: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Танк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осмона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Милицио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ков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ино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ерепорхн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ораблекру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Акваланг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1680">
                <a:tc>
                  <a:txBody>
                    <a:bodyPr lIns="45360" rIns="453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Термо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ая соединительная линия 5"/>
          <p:cNvSpPr/>
          <p:nvPr/>
        </p:nvSpPr>
        <p:spPr>
          <a:xfrm>
            <a:off x="6072120" y="350028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7"/>
          <p:cNvSpPr/>
          <p:nvPr/>
        </p:nvSpPr>
        <p:spPr>
          <a:xfrm>
            <a:off x="6072120" y="457200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4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1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74080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14200" y="571680"/>
          <a:ext cx="8715600" cy="5835600"/>
        </p:xfrm>
        <a:graphic>
          <a:graphicData uri="http://schemas.openxmlformats.org/drawingml/2006/table">
            <a:tbl>
              <a:tblPr/>
              <a:tblGrid>
                <a:gridCol w="2613240"/>
                <a:gridCol w="3390840"/>
                <a:gridCol w="2711520"/>
              </a:tblGrid>
              <a:tr h="690480"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ъявлен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стема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 row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колько слов в предложени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День был тепл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10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правильный ответ с первой попыт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правильный ответ со второй попыт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 балла – правильный ответ с третьей  попыт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неверный ответ с третьей попытки.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аллов х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коло дома росла высокая бе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row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колько слогов  в слов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аранд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rowSpan="3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предели место звука в слов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ервый звук в слове «крыш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Третий звук  в слове «шко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оследний звук  в слове «стака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rowSpan="3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колько звуков в слов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у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Прямая соединительная линия 3"/>
          <p:cNvSpPr/>
          <p:nvPr/>
        </p:nvSpPr>
        <p:spPr>
          <a:xfrm>
            <a:off x="6572160" y="507204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1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9169200" cy="44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357120"/>
          <a:ext cx="9144000" cy="6499440"/>
        </p:xfrm>
        <a:graphic>
          <a:graphicData uri="http://schemas.openxmlformats.org/drawingml/2006/table">
            <a:tbl>
              <a:tblPr/>
              <a:tblGrid>
                <a:gridCol w="5224320"/>
                <a:gridCol w="384480"/>
                <a:gridCol w="3535200"/>
              </a:tblGrid>
              <a:tr h="27468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Послушай и повтори». Читать 1-2 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 правильное и точное воспроизвед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пропуск отдельных слов без искажения смысла и структуры предлож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пропуск частей предложения, искажение смысла и структуры, замена на прямую речь, предложение не законче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невоспроизвед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тичка свила гнезд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саду было много красных яб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 катали из снега комки и лепили снежную ба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тя сказал, что не пойдет гулять, потому что холод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 зеленом лугу, который был за рекой, паслись лош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Исправь ошиб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выявление и исправление ошиб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 незначительные неточности (пропуск, перестановка, замена слов, нарушение порядка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ошибка выявлена, но не исправлена, или  аграмматич.  исправл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ошибка не выяв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ом нарисован  мальч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бака вышла в буд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 морю плывут кораб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орошо спится медведь под сне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д большим деревом была глубокая я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428760"/>
          <a:ext cx="9144000" cy="6635520"/>
        </p:xfrm>
        <a:graphic>
          <a:graphicData uri="http://schemas.openxmlformats.org/drawingml/2006/table">
            <a:tbl>
              <a:tblPr/>
              <a:tblGrid>
                <a:gridCol w="6021360"/>
                <a:gridCol w="446040"/>
                <a:gridCol w="2676600"/>
              </a:tblGrid>
              <a:tr h="54900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Составь предложения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 предложение составлено вер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нарушен порядок с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пропуски, привнесение, замены слов, аграматизмы, незначительные смысловые неточ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смысловая неадекватность или отказ от выполнения зад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альчик, открывать, две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деть, синичка, на, вет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Груша, бабушка, внучка, дава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тя, косить, трава, кролики, д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тя, купить, шар, красный, ма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Вставь пропущенное слов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 правильный отв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 правильный ответ после стимулирующей помощ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правильный ответ после помощи второго ви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неэффективное использование помощи как первого, так и второго ви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на наливает чай … ча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чки распустились … деревь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тенец выпал… гнез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Щенок спрятался … крыльц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с сидит … кон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Rectangle 1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91692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428760"/>
          <a:ext cx="9144000" cy="4189320"/>
        </p:xfrm>
        <a:graphic>
          <a:graphicData uri="http://schemas.openxmlformats.org/drawingml/2006/table">
            <a:tbl>
              <a:tblPr/>
              <a:tblGrid>
                <a:gridCol w="5357880"/>
                <a:gridCol w="914400"/>
                <a:gridCol w="2871720"/>
              </a:tblGrid>
              <a:tr h="54900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Один – дом, а если их много, то это – дом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 правильный отв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 правильный ответ после стимулирующей помощ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форма образована невер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невыпол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 – стол, а много – э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ул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но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везда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хо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rowSpan="5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Один- дом, а много чего? – домов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балл – правильный отв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5 балла – правильный ответ после стимулирующей помощ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,25 балла – форма образована невер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 баллов – невыпол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 – стол, а много чего? -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ул -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но -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везда -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хо -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angle 1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9169200" cy="4446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0" y="4643280"/>
            <a:ext cx="91440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ценка: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∑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ллов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0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5"/>
          <p:cNvSpPr/>
          <p:nvPr/>
        </p:nvSpPr>
        <p:spPr>
          <a:xfrm>
            <a:off x="357120" y="571500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947-D6D8-4D27-88E1-50E38DB76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281160" y="542880"/>
            <a:ext cx="850896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42920" y="642960"/>
          <a:ext cx="8786880" cy="5995800"/>
        </p:xfrm>
        <a:graphic>
          <a:graphicData uri="http://schemas.openxmlformats.org/drawingml/2006/table">
            <a:tbl>
              <a:tblPr/>
              <a:tblGrid>
                <a:gridCol w="954000"/>
                <a:gridCol w="3006720"/>
                <a:gridCol w="4826160"/>
              </a:tblGrid>
              <a:tr h="660240"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ыполнение артикуляционных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стема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бы в улыб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10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правильное выполнение движения 3-5 сек, 4-5 раз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замедленное  и напряженное  вы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 балла – выполнение с ошибками – длительный поиск позы, объем, темп, точность, симметричность, наличие синкинезий, гиперкинезов, тремор, посинение органов речи или носо-губного треугольни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невыполнение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бщая оценка: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-  задания для экспресс-диагно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 при проведении экспресс-диагностики: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бы «трубоч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Язык «лопат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Язык «иголоч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Язык «чашеч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Щелканье язы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«Вкусное варен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«Каче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«Маятн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2080">
                <a:tc>
                  <a:txBody>
                    <a:bodyPr lIns="45000" rIns="45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Чередование «улыбка» - «трубоч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ая соединительная линия 6"/>
          <p:cNvSpPr/>
          <p:nvPr/>
        </p:nvSpPr>
        <p:spPr>
          <a:xfrm>
            <a:off x="6215040" y="457200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>
            <a:off x="6143760" y="564372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128520" y="182520"/>
            <a:ext cx="881388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8"/>
          <p:cNvSpPr/>
          <p:nvPr/>
        </p:nvSpPr>
        <p:spPr>
          <a:xfrm>
            <a:off x="0" y="214200"/>
            <a:ext cx="9144000" cy="664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6858000" y="2000160"/>
            <a:ext cx="228600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1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156960" cy="1049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5551" t="11550" r="5551" b="11550"/>
          <a:stretch/>
        </p:blipFill>
        <p:spPr>
          <a:xfrm>
            <a:off x="0" y="5072040"/>
            <a:ext cx="235728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0" y="2143080"/>
            <a:ext cx="235728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4" descr=""/>
          <p:cNvPicPr/>
          <p:nvPr/>
        </p:nvPicPr>
        <p:blipFill>
          <a:blip r:embed="rId4"/>
          <a:srcRect l="0" t="7697" r="0" b="11531"/>
          <a:stretch/>
        </p:blipFill>
        <p:spPr>
          <a:xfrm>
            <a:off x="0" y="3571920"/>
            <a:ext cx="235728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5"/>
          <a:stretch/>
        </p:blipFill>
        <p:spPr>
          <a:xfrm>
            <a:off x="0" y="785880"/>
            <a:ext cx="235728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6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6858000" y="3500280"/>
            <a:ext cx="2286000" cy="15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7"/>
          <a:srcRect l="0" t="0" r="5717" b="11531"/>
          <a:stretch/>
        </p:blipFill>
        <p:spPr>
          <a:xfrm>
            <a:off x="3571920" y="3643200"/>
            <a:ext cx="2357280" cy="15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Рисунок 11" descr="igrushka_deti_33.gif"/>
          <p:cNvPicPr/>
          <p:nvPr/>
        </p:nvPicPr>
        <p:blipFill>
          <a:blip r:embed="rId8"/>
          <a:stretch/>
        </p:blipFill>
        <p:spPr>
          <a:xfrm>
            <a:off x="3357720" y="1714680"/>
            <a:ext cx="271440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Рисунок 14" descr="0006-006-Porosenok.jpg"/>
          <p:cNvPicPr/>
          <p:nvPr/>
        </p:nvPicPr>
        <p:blipFill>
          <a:blip r:embed="rId9"/>
          <a:stretch/>
        </p:blipFill>
        <p:spPr>
          <a:xfrm>
            <a:off x="7000920" y="2286000"/>
            <a:ext cx="1326960" cy="1071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0006-006-Porosenok.jpg"/>
          <p:cNvPicPr/>
          <p:nvPr/>
        </p:nvPicPr>
        <p:blipFill>
          <a:blip r:embed="rId10"/>
          <a:stretch/>
        </p:blipFill>
        <p:spPr>
          <a:xfrm>
            <a:off x="8215200" y="2857680"/>
            <a:ext cx="708120" cy="571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6" descr="0030-095-U-kuritsy-iz-jaits-vylupljajutsja-tsypljata.jpg"/>
          <p:cNvPicPr/>
          <p:nvPr/>
        </p:nvPicPr>
        <p:blipFill>
          <a:blip r:embed="rId11"/>
          <a:stretch/>
        </p:blipFill>
        <p:spPr>
          <a:xfrm>
            <a:off x="6858000" y="642960"/>
            <a:ext cx="228600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Рисунок 17" descr="798799561.jpg"/>
          <p:cNvPicPr/>
          <p:nvPr/>
        </p:nvPicPr>
        <p:blipFill>
          <a:blip r:embed="rId12"/>
          <a:stretch/>
        </p:blipFill>
        <p:spPr>
          <a:xfrm>
            <a:off x="6858000" y="5000760"/>
            <a:ext cx="228600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6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935F-5D83-42DF-809F-385CDD8E0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Таблица 4" descr=""/>
          <p:cNvPicPr/>
          <p:nvPr/>
        </p:nvPicPr>
        <p:blipFill>
          <a:blip r:embed="rId1"/>
          <a:stretch/>
        </p:blipFill>
        <p:spPr>
          <a:xfrm>
            <a:off x="139680" y="785880"/>
            <a:ext cx="8577360" cy="346860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1" descr=""/>
          <p:cNvPicPr/>
          <p:nvPr/>
        </p:nvPicPr>
        <p:blipFill>
          <a:blip r:embed="rId2"/>
          <a:stretch/>
        </p:blipFill>
        <p:spPr>
          <a:xfrm>
            <a:off x="201600" y="444600"/>
            <a:ext cx="84549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428-0AD3-4F47-8EDA-009FEBB2E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4200" y="571680"/>
          <a:ext cx="8715600" cy="4114800"/>
        </p:xfrm>
        <a:graphic>
          <a:graphicData uri="http://schemas.openxmlformats.org/drawingml/2006/table">
            <a:tbl>
              <a:tblPr/>
              <a:tblGrid>
                <a:gridCol w="4165560"/>
                <a:gridCol w="2275200"/>
                <a:gridCol w="2274840"/>
              </a:tblGrid>
              <a:tr h="274680">
                <a:tc gridSpan="3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бразование качественных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5"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Если днем жара, то день – жаркий, а если ……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роз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лнце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не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тер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7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ождь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gridSpan="3">
                  <a:txBody>
                    <a:bodyPr lIns="34560" rIns="345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бразование притяжательных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rowSpan="5"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У собаки лапа собачья, а у ….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22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шки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22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лка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ь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27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едведя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сы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201600" y="109440"/>
            <a:ext cx="8740800" cy="4446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6"/>
          <p:cNvSpPr/>
          <p:nvPr/>
        </p:nvSpPr>
        <p:spPr>
          <a:xfrm>
            <a:off x="214200" y="4357800"/>
            <a:ext cx="871560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ценка: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∑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ллов х 100%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0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7"/>
          <p:cNvSpPr/>
          <p:nvPr/>
        </p:nvSpPr>
        <p:spPr>
          <a:xfrm>
            <a:off x="642960" y="6286680"/>
            <a:ext cx="15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214200" y="4292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 правильный от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 балла – самокоррекция  или  правильный   после стимулирующей  помощ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5 балла – неверно образованная  фор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невыполнение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2E11-2D54-4445-A316-636795973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1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816300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571680" y="928800"/>
          <a:ext cx="7858080" cy="43894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кажи ключ, каранда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цен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правильный отве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самокоррек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невыпол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ценка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∑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баллов ∙ 10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кажи карандашом клю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андаш - ключ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рисуй круг под крес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рисуй крест - под кру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кажи, что верно: весна бывает перед летом или лето - перед весн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3035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я выше Пети. Кто меньше ростом?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ашу ударил Коля. Кто драчу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хотник бежит за собакой. Кто вперед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49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па прочел газету после того, как позавтракал. Что папа сделал вначал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81F-DD0B-444F-A079-CBA306449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1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583760" cy="71892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" descr=""/>
          <p:cNvPicPr/>
          <p:nvPr/>
        </p:nvPicPr>
        <p:blipFill>
          <a:blip r:embed="rId2"/>
          <a:stretch/>
        </p:blipFill>
        <p:spPr>
          <a:xfrm>
            <a:off x="695160" y="993600"/>
            <a:ext cx="7955280" cy="9684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Рисунок3.jpg"/>
          <p:cNvPicPr/>
          <p:nvPr/>
        </p:nvPicPr>
        <p:blipFill>
          <a:blip r:embed="rId3"/>
          <a:stretch/>
        </p:blipFill>
        <p:spPr>
          <a:xfrm>
            <a:off x="2500200" y="2357280"/>
            <a:ext cx="2071800" cy="250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2" name="Рисунок 6" descr="Рисунок4.jpg"/>
          <p:cNvPicPr/>
          <p:nvPr/>
        </p:nvPicPr>
        <p:blipFill>
          <a:blip r:embed="rId4"/>
          <a:stretch/>
        </p:blipFill>
        <p:spPr>
          <a:xfrm>
            <a:off x="6786720" y="2357280"/>
            <a:ext cx="2071440" cy="250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3" name="Рисунок 7" descr="Рисунок5.jpg"/>
          <p:cNvPicPr/>
          <p:nvPr/>
        </p:nvPicPr>
        <p:blipFill>
          <a:blip r:embed="rId5"/>
          <a:stretch/>
        </p:blipFill>
        <p:spPr>
          <a:xfrm>
            <a:off x="357120" y="3214800"/>
            <a:ext cx="2071800" cy="250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4" name="Рисунок 8" descr="Рисунок6.jpg"/>
          <p:cNvPicPr/>
          <p:nvPr/>
        </p:nvPicPr>
        <p:blipFill>
          <a:blip r:embed="rId6"/>
          <a:stretch/>
        </p:blipFill>
        <p:spPr>
          <a:xfrm>
            <a:off x="4643280" y="3214800"/>
            <a:ext cx="2071800" cy="250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Прямая соединительная линия 11"/>
          <p:cNvSpPr/>
          <p:nvPr/>
        </p:nvSpPr>
        <p:spPr>
          <a:xfrm>
            <a:off x="428760" y="4929120"/>
            <a:ext cx="807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1831 L -0.45972 0.38217 E">
                                      <p:cBhvr>
                                        <p:cTn id="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23518 L -0.45782 0.38171 E">
                                      <p:cBhvr>
                                        <p:cTn id="1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23518 L 0.22361 0.38217 E">
                                      <p:cBhvr>
                                        <p:cTn id="1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0.21412 L 0.67847 0.38217 E">
                                      <p:cBhvr>
                                        <p:cTn id="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21E-441F-4D66-B123-6F6327C89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цен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Критерий смысловой целост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 рассказ соответствует ситуации, имеет смысловые звенья, расположенные  в правильной последова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незначительное искажение ситуации, неправильное воспроизведение причинно-следственных связей или отсутствие связующих звен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 выпадение смысловых звеньев, существенное искажение смысла или рассказ не заверш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отсутствует описание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Критерий лексико-грамматического высказы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 грамматически правильный рассказ с адекватным использованием лексически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без аграмматизмов, но наблюдается стереотипность грамматического оформления, еденичные случаи поиска слов или неточное словоупотреб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 аграмматизмы, далекие смысловые замены, неадекватное использование лексических средст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рассказ не оформ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Критерий самостоятельности выполнения за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 полностью самостоятельная рабо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картинки разложены со стимулирующей помощью, рассказ – самостояте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невыполнение даже при наличии помощи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85840" y="5852160"/>
            <a:ext cx="642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ценк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∑ баллов ∙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0DF3-AC6F-47F2-94A7-1B55453A2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1" descr=""/>
          <p:cNvPicPr/>
          <p:nvPr/>
        </p:nvPicPr>
        <p:blipFill>
          <a:blip r:embed="rId1"/>
          <a:stretch/>
        </p:blipFill>
        <p:spPr>
          <a:xfrm>
            <a:off x="853920" y="182520"/>
            <a:ext cx="7583760" cy="43992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1" descr=""/>
          <p:cNvPicPr/>
          <p:nvPr/>
        </p:nvPicPr>
        <p:blipFill>
          <a:blip r:embed="rId2"/>
          <a:stretch/>
        </p:blipFill>
        <p:spPr>
          <a:xfrm>
            <a:off x="792000" y="628560"/>
            <a:ext cx="77058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EAE7-FCB0-4435-B4E1-D26D3163A0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37C-2D1C-4FEB-B61B-EEB7F8AE7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85840" y="31176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Оц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Критерий смысловой цело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воспроизведены все смысловые звен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смысловые звенья воспроизведены с незначительными сокращ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пересказ неполный, значительные сокращения, искажения смысла, включение посторонне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невыпол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Критерий лексико-грамматического высказы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 нарушений лексических и грамматических средств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аграмматизмов нет, но есть стереотипность высказываний, поиск слов, отдельные близкие словесные зам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 аграмматизмы, повторы, неадекватное использование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пересказ не доступ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Критерий самостоятельности выполнения зад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баллов – самостоятельный пересказ после первого предъя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5 балла – пересказ после минимальной помощи (1-2 вопроса) или после повторного проч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балл – пересказ по вопрос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 баллов – невыполнение даже по вопросам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едование чт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, б, с, з, ш, ж, р, л, с, ц, 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ть указанную логопедом бу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D6D-E24D-47A5-8C3C-43C402A2A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1" descr=""/>
          <p:cNvPicPr/>
          <p:nvPr/>
        </p:nvPicPr>
        <p:blipFill>
          <a:blip r:embed="rId1"/>
          <a:stretch/>
        </p:blipFill>
        <p:spPr>
          <a:xfrm>
            <a:off x="281160" y="542880"/>
            <a:ext cx="850896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42920" y="571680"/>
          <a:ext cx="8786880" cy="6075360"/>
        </p:xfrm>
        <a:graphic>
          <a:graphicData uri="http://schemas.openxmlformats.org/drawingml/2006/table">
            <a:tbl>
              <a:tblPr/>
              <a:tblGrid>
                <a:gridCol w="1914480"/>
                <a:gridCol w="2443320"/>
                <a:gridCol w="4429080"/>
              </a:tblGrid>
              <a:tr h="361800">
                <a:tc grid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бследование зву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стема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р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10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балл – норм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 балла – верно изолирова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 балл – верно 1 звук из групп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баллов – все невер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Оценка: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∑ баллов х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с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л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л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ц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ш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ж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щ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ч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’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р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Звук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[J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ая соединительная линия 6"/>
          <p:cNvSpPr/>
          <p:nvPr/>
        </p:nvSpPr>
        <p:spPr>
          <a:xfrm>
            <a:off x="5786280" y="2286000"/>
            <a:ext cx="150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9" descr=""/>
          <p:cNvPicPr/>
          <p:nvPr/>
        </p:nvPicPr>
        <p:blipFill>
          <a:blip r:embed="rId2"/>
          <a:stretch/>
        </p:blipFill>
        <p:spPr>
          <a:xfrm>
            <a:off x="128520" y="189000"/>
            <a:ext cx="88138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Р , К , З,  В, С, Э, </a:t>
            </a: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, Я, Ь,Ч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вать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42960" y="1857240"/>
            <a:ext cx="7972560" cy="22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      Ч        К                           З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зать правильно написанную букву рядом с зеркальным ее изображе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1763640" y="1928880"/>
            <a:ext cx="808200" cy="10936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"/>
          <p:cNvPicPr/>
          <p:nvPr/>
        </p:nvPicPr>
        <p:blipFill>
          <a:blip r:embed="rId2"/>
          <a:stretch/>
        </p:blipFill>
        <p:spPr>
          <a:xfrm>
            <a:off x="2857680" y="2000160"/>
            <a:ext cx="625320" cy="7891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3"/>
          <a:stretch/>
        </p:blipFill>
        <p:spPr>
          <a:xfrm>
            <a:off x="4500720" y="2071800"/>
            <a:ext cx="657000" cy="92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4"/>
          <a:stretch/>
        </p:blipFill>
        <p:spPr>
          <a:xfrm>
            <a:off x="6715080" y="2000160"/>
            <a:ext cx="584280" cy="1022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5"/>
          <a:stretch/>
        </p:blipFill>
        <p:spPr>
          <a:xfrm>
            <a:off x="1571760" y="3071880"/>
            <a:ext cx="6429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Х, К, Ж,  Т, П, Н, Г, Ш, Щ, Ц,   Л, М, О, С, Э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из сходных по начертанию букв нужн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а  шу  ха  ну  ос  р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да  пе  ню ря  пу  п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прямые сл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ум  ах  ас  ор  ын  у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ат  ом  ет  ян  е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обратные сл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та   кро   тру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гло   цви   вр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ги со стечением соглас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а -тя     сы - си     ка – к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у -зю    ма - мя   ло – л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у – вю  ды - ди   по - пё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ги с твердыми и мягкими соглас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ит,  шум,  сок, мост,  кус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осы,   луна,   очки, отряд,   шалаш, сан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машина,  колесо, собака,  ножницы, тетрад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1" descr="Стр. 008.jpg"/>
          <p:cNvPicPr/>
          <p:nvPr/>
        </p:nvPicPr>
        <p:blipFill>
          <a:blip r:embed="rId1"/>
          <a:stretch/>
        </p:blipFill>
        <p:spPr>
          <a:xfrm>
            <a:off x="928800" y="1500120"/>
            <a:ext cx="750096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3" descr=""/>
          <p:cNvPicPr/>
          <p:nvPr/>
        </p:nvPicPr>
        <p:blipFill>
          <a:blip r:embed="rId2"/>
          <a:stretch/>
        </p:blipFill>
        <p:spPr>
          <a:xfrm>
            <a:off x="2206800" y="774720"/>
            <a:ext cx="501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диктант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милиционер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арикмахерск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одойди к полке и возьми книг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предложение и выполнить соответствующее дейст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оставь стул справа от стол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предложение и выполнить соответствующее дейст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обака бежит за мальчиком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прос: Кто бежит впереди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предложение, ответить на вопр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рок физкультуры был после математи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опрос: Какой урок был первым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ть предложение, ответить на вопр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356760"/>
            <a:ext cx="8786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шей деревне текут два ручейка. В них живет много раков. Мальчики ловят их руками под камнями  в дырах между корнями или под берегом. Потом они варят их и лакомятся 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дного рака я получил от моего друга, и он мне очень понравился, был очень вкусный.  Мне тоже захотелось ловить раков. Но легко сказать, но трудно сделать. У раков своё оружие - клешни, которыми они щиплются как следует. Кроме того, я боялся  сунуть руку в дыру между корнями. Ведь можно  прикоснуться к лягушке или даже зме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й друг посоветовал мне, как можно ловить раков совсем по-другому.  Нужно привязать на длинную палку тухлое мясо.  Рак крепко схватит мясо, и затем его легко вытащить из воды, как рыбу на удочке. Этот способ мне очень понравился, и поэтому я подготовил все нужные вещ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уду я нашёл глубокое место и сунул палку в воду. Сижу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койно. Вода чистая, но раков я не видел нигде. Вдруг я заметил усы, потом глаза и клешни, и, наконец, весь рак медленно вылез к мясу. Потом схватил мясо клешнями и разорвал его челюстями. Я очень осторожно вытянул свою удочку из воды - и рак лежит на тра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 наловил много раков. Мама их сварила. Какими они были красными! И очень вкусным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971640" y="1329840"/>
            <a:ext cx="74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Вопросы для выяснения степени понимания смысла прочитанн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1. О чем этот рассказ? Или Расскажи, что ты запомн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2. Почему мальчику трудно было ловить ра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3 Как можно ловить раков по другому?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E1B3-CAB0-4A6C-A052-091264533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285840" y="500040"/>
            <a:ext cx="8572320" cy="578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римеч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тестовой методике были изменены слова для проверки звукопроизношения. Однако, в соответствии с требованиями, в предметных картинках проверяемые звуки стоят в правильных позициях (в начале, в середине, в конце сл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 проверки звукопроизношения мы использовали «Альбом для логопеда» О.Б. Иншаковой (М., «Владос», 2004 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6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314-9DEA-4F0C-B4C6-F124FDA61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3" descr=""/>
          <p:cNvPicPr/>
          <p:nvPr/>
        </p:nvPicPr>
        <p:blipFill>
          <a:blip r:embed="rId1"/>
          <a:stretch/>
        </p:blipFill>
        <p:spPr>
          <a:xfrm>
            <a:off x="2206800" y="774720"/>
            <a:ext cx="5016240" cy="1011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Стр. 009.jpg"/>
          <p:cNvPicPr/>
          <p:nvPr/>
        </p:nvPicPr>
        <p:blipFill>
          <a:blip r:embed="rId2"/>
          <a:stretch/>
        </p:blipFill>
        <p:spPr>
          <a:xfrm>
            <a:off x="1285920" y="1928880"/>
            <a:ext cx="6643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F71-4840-4A21-B87F-88ECA1368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Стр. 010.jpg"/>
          <p:cNvPicPr/>
          <p:nvPr/>
        </p:nvPicPr>
        <p:blipFill>
          <a:blip r:embed="rId1"/>
          <a:stretch/>
        </p:blipFill>
        <p:spPr>
          <a:xfrm>
            <a:off x="1285920" y="2071800"/>
            <a:ext cx="635796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" descr=""/>
          <p:cNvPicPr/>
          <p:nvPr/>
        </p:nvPicPr>
        <p:blipFill>
          <a:blip r:embed="rId2"/>
          <a:stretch/>
        </p:blipFill>
        <p:spPr>
          <a:xfrm>
            <a:off x="2206800" y="774720"/>
            <a:ext cx="501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2BF0-67AA-47A4-B5B9-122BC6568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7" descr="Стр. 011.jpg"/>
          <p:cNvPicPr/>
          <p:nvPr/>
        </p:nvPicPr>
        <p:blipFill>
          <a:blip r:embed="rId1"/>
          <a:stretch/>
        </p:blipFill>
        <p:spPr>
          <a:xfrm>
            <a:off x="1428840" y="1857240"/>
            <a:ext cx="65008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2206800" y="774720"/>
            <a:ext cx="501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5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5A7-FD01-4F96-8190-32579649B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Стр. 012.jpg"/>
          <p:cNvPicPr/>
          <p:nvPr/>
        </p:nvPicPr>
        <p:blipFill>
          <a:blip r:embed="rId1"/>
          <a:stretch/>
        </p:blipFill>
        <p:spPr>
          <a:xfrm>
            <a:off x="1357200" y="2286000"/>
            <a:ext cx="657252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2"/>
          <a:stretch/>
        </p:blipFill>
        <p:spPr>
          <a:xfrm>
            <a:off x="2206800" y="774720"/>
            <a:ext cx="501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10:33Z</dcterms:created>
  <dc:creator>Admin</dc:creator>
  <dc:description>http://aida.ucoz.ru</dc:description>
  <dc:language>en-US</dc:language>
  <cp:lastModifiedBy>Школа №1</cp:lastModifiedBy>
  <dcterms:modified xsi:type="dcterms:W3CDTF">2015-04-15T12:04:27Z</dcterms:modified>
  <cp:revision>70</cp:revision>
  <dc:subject/>
  <dc:title>Слайд 1</dc:title>
</cp:coreProperties>
</file>