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980-F998-4788-A1EE-7559AA64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FB0-604F-4C2A-A24E-7FAB602D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4ED7-50C8-4A98-90B2-A4115C06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B6B-E0F0-4DC0-ADA1-29B2466C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A585-CC48-4D66-AEE9-3F6C3A23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B2D6-AEF5-4CF3-980C-995F7C4D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5F6-CF77-4D7B-AB8F-75733EBE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B24-8A9E-429C-BFBA-768186CB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682-1A67-47F1-AB66-1D02D162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0179-4EF7-42EB-B273-D58C56C2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BE0-45E3-4D4B-8E45-E5185D8A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4B7-AD9B-431F-AC32-8EEA731A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9A4D-03BF-4DC4-8372-7FAC3CAABAB1}" type="slidenum">
              <a:rPr b="0" lang="es-U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6143760" y="6429240"/>
            <a:ext cx="30002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3"/>
          <p:cNvSpPr/>
          <p:nvPr/>
        </p:nvSpPr>
        <p:spPr>
          <a:xfrm>
            <a:off x="6143760" y="6429240"/>
            <a:ext cx="30002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3:31:36Z</dcterms:created>
  <dc:creator>Mariajose</dc:creator>
  <dc:description/>
  <dc:language>en-US</dc:language>
  <cp:lastModifiedBy>ADMIN</cp:lastModifiedBy>
  <dcterms:modified xsi:type="dcterms:W3CDTF">2012-12-04T02:43:21Z</dcterms:modified>
  <cp:revision>12</cp:revision>
  <dc:subject/>
  <dc:title>Slide 1</dc:title>
</cp:coreProperties>
</file>