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39E-ED34-49C8-8D1B-B4A5704D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B4C-4C6B-46A1-96AC-AB11B0A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46943-F9C5-49AA-A31B-E1E34656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E39E4-B692-402E-A82C-ECE223D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4A2C8-CF28-47AA-A287-5F4745E6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3E6D-4ECB-47CF-94C2-AB58B32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A582E-CB9A-42AA-AF85-328D1AB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E6E2-3004-4F94-A85A-438A233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B8024-1991-49B9-8C37-52676F3F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24642-CB1D-4611-A119-1E3DD627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5DB0-CF67-480A-8DBA-52CAF077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EB459-5F60-4669-AD5E-AC70EB90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81E-281B-4639-84FC-D5DE7644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C5891-44D8-46F5-BA96-2556398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F9833-2358-402C-8DB4-14634F4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B1F6-6BA0-4CB9-A191-CF50128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DA62D-3136-4E12-B306-9E6AE5A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D3F9E-25B5-44B9-9CE1-725B6D09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AF34-66B8-42B0-B5B1-6F0267A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007F0-D8BE-48DA-942C-E071239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A1743-254E-4C14-972C-79B6C9C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860EF-EDD3-445A-AD81-076DA9D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0F8CA-1302-446D-831C-4435033F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ACD-4007-47F1-84ED-98C1C6C5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FED88-CF71-4E43-A686-13677502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B78D4-1D9B-46D0-A630-762E3526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AF91-AA58-4FD7-8CD6-A645DA34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E591-EBC3-43B2-ADC1-60AF9AA3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FC8DB-B5B3-4D94-A3AB-5031B7F0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3C50-0C85-466F-A5C2-42E5280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B802E-6702-47F5-8A6D-CE2565A1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F37B1-EB27-46CD-964A-E4614D2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CBCCD-5872-425B-8152-25BF260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1BE7D-3693-418A-8C91-73D5F92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D1D9-D669-41FE-B92B-E25580EF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2427A-6920-4DC3-ADDC-549C3C46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ADD10-6098-4F1B-812F-D5536BC1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1319A-3108-478A-A29B-544AA64D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78E42-C2E7-49E4-BA56-751CEB04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362F1-606E-4A10-93E3-1F0EDC39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2F035-99DE-4C4D-BC05-6C4A313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6890E-E21F-4A12-BEB8-7EC70620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1BADE-35A5-49FE-8F20-AF5DAD4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34C45-5981-408A-8E5E-D4ABB8D7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B5C9A-F3F5-42F7-96A2-F1B7F8F6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C450-1F80-493C-81E1-10B312BA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B35E-663D-47DC-A618-23C7D3F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7E37-558C-47C5-ACA4-0640C6F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5C3D9-AF3E-43DA-A7FA-D45164B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EAED9-C84D-4CAC-9F57-87AA9A6E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03E34-3D70-4C96-9E54-614E6E8E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5D7-1BB6-4E37-86E0-E1EBDFA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CCD3-88D1-4DE5-B0EE-E09AF0F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5FC7-4228-4F31-81C7-FF68F30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4C7-A273-49FE-AD8F-08E3C195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0F22-1781-4A97-BA0B-D86607A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047-5471-46BB-B3E5-47227DEE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5D2-A467-4FC1-BCE0-6EE52D6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D8CE-7E4E-4E16-B077-07FA55C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ABB0-5601-4E58-A2BA-87BDF2B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2B1-074F-4FFD-9C75-5CF6365E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A817-DA46-4CDB-BE5E-F87C18FB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3387-A294-4D23-81A7-72C3435A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2ED2-DEC3-45B7-85ED-8C8F8ACA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44EA-4BBE-413A-AE92-9EABCBD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B336-1BE3-4A0A-AAA4-DB5081F7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05D6-9125-49B4-B6C4-0A29C16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F53-A959-4EAA-99F6-7828926F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7BBC-4E93-4E74-8A5E-9C58914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C59A-B743-495E-8E78-07B70EC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76E9-60EF-4A44-930C-69A85B1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8ED3-8497-468A-B651-651F297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8982-2C43-4D75-B92F-B5458EFD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9562-03EF-4709-9AA8-F736006E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D0AD-678F-4578-915E-193C917E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C545-DC90-49CC-8D6F-AD67E16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B22E-B8AA-4982-BBFF-2F8596B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E567-B205-4BB0-B64F-FF39DAB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2CC-D9C2-4C36-88E5-0B410C6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BD08-678C-4E54-B06E-1D00FFF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515B-A0B2-47A4-92EB-4AA35C7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5C81-D8DB-4EAF-8FE2-022F53BA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E3FB-DD11-4FFA-AAFF-7E08E47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48FB-19FE-47B8-9948-7D30D80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1B1A-C84B-4DE8-8973-3C068F1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ACA9-64DF-46FE-B6E4-3CCDC01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4AAC-FE7F-4CCB-8378-FAB596BE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A551-5417-4E06-AF51-E31D2E7D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229B-5CEC-4714-8A89-C886C7C1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069-4DB3-431F-8AE1-D4CB7B8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0E00-60F1-49A8-A06F-6B94129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A35E-B9C1-445A-A6DE-18E8762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AAFB-2F59-46BC-AE33-576B78EB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F9F6-94D1-419B-A4C8-8393D92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EDAB7-A6EC-428F-90B0-B60BD3D4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CC9F-CE65-435A-9EE0-8B83586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5F5F-6F85-4AF4-B4C4-D7B31ED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C05A-A70A-4B21-A41C-C08F08B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6495-653A-4EB6-9561-1BFFE28C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B195F-D40B-44B3-AA90-42665DA3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6FB-62A2-4090-B8EB-E52DFFB4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2C61-E40F-4E9F-A238-70BD5842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E371-C48A-4382-B71C-D29CACAD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7D85-8169-4CE0-9536-D6640E4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B1CC4-5367-4552-9E28-008891E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892B-444D-4CB0-9993-ECF8A56D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6895-1A67-4329-A339-68A3468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A957-C53F-4F5B-A7F0-73739D70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C499-2C69-4514-8F78-6A5FCE7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0652F-9474-40B8-BD1A-BC72394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B24D-AC87-4816-9BED-55DED1D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3E6-129A-42C8-8FA2-458C3C1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C463-9797-47A9-956B-5BCAD5E9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0513-95C8-41BA-A23A-4FBCCB9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9519-6897-42B9-91C4-2AA8E6D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0216-2D8F-4F2A-A2EA-CA3EEEAF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F2E5-0FB0-4BA3-A2CF-8101F87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07D0D-23D3-4977-976E-0C51BBD8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EE58-6DAA-4F60-8AC6-D8748A3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3219-DC6E-4C2E-B064-C7075E8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E395-57E3-4ED0-A8E6-E33ECA8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92E4-5A4A-443B-A1B6-3FD6848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94C-60E0-4540-B466-3730324A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D1AD6-3492-42BC-9446-245686A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53F8-379D-4E89-A56C-EE81A9C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63D5-DE1E-40E2-BF01-F27186F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F59D-54BB-4B6D-A542-A0AEF7FA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3EA3-F893-4158-82F7-8F3ABA8C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E231-29DF-43A7-8FF7-5B2C9271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4151A-0A83-4D9C-BD6E-03BD5809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1B8D6-0B6F-44BF-9399-D9C0A0E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5D13-87C5-460D-8688-245DB0D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CA75-7EDF-4928-8178-C7E7800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C39-E974-464D-8A0A-534A2E8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9DB11-9619-46EA-AA27-8E3AE37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91A63-8D80-4F52-8F44-E201BEA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8B0D9-A21A-4F78-BDD7-08027F5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A0EE3-075C-4C29-9B11-3038B8D2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02BB-526F-4A7B-9BFC-4520C36F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1BB51-7372-4B79-94AE-0E669A3F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C432-396F-4DC0-BE11-FBD29D89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267FF-EE4F-47B5-AB2D-6CF58F52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BBD4-1584-4C28-BA75-926ECD6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5AFAE-18DF-486D-BE7B-E50E8FD5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2118-19D2-46DE-B662-42F02DEC764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C81B-DADF-49F7-8ED0-CD9EC02523E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49BD-BD9B-4045-9A21-E0A8C7A0BE8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36F2-3509-4A8F-BDB6-5E5FB8AAAD2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E9A-B771-49C9-9496-D512BE4EA5D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539-1411-4780-94F7-6F45A2B255D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AF7-9B73-41D9-88D1-CF8699A63CE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74F-A9F4-4DC1-B000-F2699F6A0E8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305-0658-4946-93A7-008809F17A3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AEEF-B8B0-45F2-BBD7-93DFB572788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23rf.com/photo_7256532_cartoon-wise-owl-sitting-on-pile-book-and-red-apple.html" TargetMode="External"/><Relationship Id="rId2" Type="http://schemas.openxmlformats.org/officeDocument/2006/relationships/hyperlink" Target="http://www.picturedesign.info/photoshop/page/143/" TargetMode="Externa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642960" y="3500280"/>
            <a:ext cx="7929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шаблона – Коровина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рис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www.123rf.com/photo_7256532_cartoon-wise-owl-sitting-on-pile-book-and-red-app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://www.picturedesign.info/photoshop/page/14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clipartof.com/small/32979-Clipart-Illustration-Of-A-Little-Boy-And-Girl-Studying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-A-Green-Colored-Pencil-Watch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dmin</cp:lastModifiedBy>
  <dcterms:modified xsi:type="dcterms:W3CDTF">2012-08-25T12:44:25Z</dcterms:modified>
  <cp:revision>10</cp:revision>
  <dc:subject/>
  <dc:title>Слайд 1</dc:title>
</cp:coreProperties>
</file>