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16B-8ACE-4265-A623-780841F9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4680" y="400716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57F-B049-420C-9C01-605B77A9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4680" y="400716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60400" y="400716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2AA-5C8C-4668-A8A2-4A703021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0200" y="164304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5720" y="164304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4680" y="400716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0200" y="400716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5720" y="400716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2F2-BF2B-4966-B182-B9557E16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5303-E6E9-4073-8425-F64417C7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14680" y="164304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2953-CF02-4826-9F19-B0056211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6C37-6197-4B4E-9630-79CC22F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A167-9CE8-4AA1-A2B5-583A0869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7D42-C027-49ED-871B-2D227EFD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14680" y="285480"/>
            <a:ext cx="711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4E8-E88F-4595-9C45-DE85634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14680" y="400716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536-E9E7-4C4C-8C95-7821A36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4680" y="164304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3C6-1CC0-4A8A-8E19-F8250E32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60400" y="400716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9EDB-D879-49B8-A58A-042414AE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14680" y="400716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2C85-07C7-44C0-A83C-28968895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14680" y="400716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35B2-F0CA-435B-81EC-525DBDC2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14680" y="400716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60400" y="400716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D747-5D8F-4A6B-AA80-F9958752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0200" y="164304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5720" y="164304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14680" y="400716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0200" y="400716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5720" y="400716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6903-F7F5-44BD-8718-F9982827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8AC-4803-4148-B9FD-8370653B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06F-333B-4AA2-BB29-C5B285F3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8F1-F095-4564-9D19-3E29488A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4680" y="285480"/>
            <a:ext cx="711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84C-999B-4FC2-89DE-72267F8F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4680" y="400716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DBD-48E0-4AE4-A390-35D98B9C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60400" y="400716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492-2C1B-4F0D-A928-3473CAA7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0400" y="164304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4680" y="400716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A59-F393-46E1-9D1C-68B2C70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4680" y="164304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D158-4C91-408E-B729-BC24B9C24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14680" y="164304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701A-98C2-4F8B-8B8F-CDB166C32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rafamania.net/photoshop/png_clipart/75584-shkolnyjj-klipart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06320" y="2919240"/>
            <a:ext cx="7785360" cy="1487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14240" y="4500720"/>
            <a:ext cx="441504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  <a:ea typeface="Times New Roman"/>
              </a:rPr>
              <a:t>Данный слайд используем для записи сообщения первого слайда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706400" y="281160"/>
            <a:ext cx="7126560" cy="1150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714680" y="164304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libri"/>
                <a:ea typeface="Times New Roman"/>
              </a:rPr>
              <a:t>Пункт 1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libri"/>
                <a:ea typeface="Times New Roman"/>
              </a:rPr>
              <a:t>Пункт 2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libri"/>
                <a:ea typeface="Times New Roman"/>
              </a:rPr>
              <a:t>Пункт 3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вложенный пункт 1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вложенный пункт 2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вложенный пункт 3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14680" y="164304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  <a:ea typeface="Times New Roman"/>
              </a:rPr>
              <a:t>Уважаемые коллеги! 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  <a:ea typeface="Times New Roman"/>
              </a:rPr>
              <a:t>Вы можете использовать данное оформление для создания своих презентаций, но в своей презентации вы должны указать источник шаблона. 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  <a:ea typeface="Times New Roman"/>
              </a:rPr>
              <a:t>с.Павловск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  <a:ea typeface="Times New Roman"/>
              </a:rPr>
              <a:t>Алтайский край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  <a:ea typeface="Times New Roman"/>
              </a:rPr>
              <a:t>Название сайта: http://pedsovet.su/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1706400" y="79200"/>
            <a:ext cx="7126560" cy="1401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499840" y="1643040"/>
            <a:ext cx="6186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grafamania.net/photoshop/png_clipart/75584-shkolnyjj-klipart.html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90" name="Picture 2" descr="d:\Мои документы\Мои рисунки\школьная тема.jpg"/>
          <p:cNvPicPr/>
          <p:nvPr/>
        </p:nvPicPr>
        <p:blipFill>
          <a:blip r:embed="rId3"/>
          <a:srcRect l="1841" t="2697" r="76932" b="48662"/>
          <a:stretch/>
        </p:blipFill>
        <p:spPr>
          <a:xfrm>
            <a:off x="1857240" y="1643040"/>
            <a:ext cx="547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5:40:54Z</dcterms:created>
  <dc:creator>Comp</dc:creator>
  <dc:description/>
  <dc:language>en-US</dc:language>
  <cp:lastModifiedBy>Comp</cp:lastModifiedBy>
  <dcterms:modified xsi:type="dcterms:W3CDTF">2011-07-10T12:17:10Z</dcterms:modified>
  <cp:revision>3</cp:revision>
  <dc:subject/>
  <dc:title>Слайд 1</dc:title>
</cp:coreProperties>
</file>