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9FEE-A3DC-4FA6-8136-BAB0B8AD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504-0339-4C63-AD8E-DDF3FBF8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C6A-DC7A-4476-9A1F-4E4409D6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5C1-01F9-4A2E-90FF-1AFCBCEC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3B4-E579-4698-988D-D618D39C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476-F036-44E7-B441-4F198CA6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000-D24B-4117-9A66-68A4A653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5D2-AA8D-43DC-A98B-FBDE0B1F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50D-2FAF-4816-B75C-2B13632A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92C-3737-450C-8EBE-65DFE9D1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244-1370-4257-953F-0E3034BB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A3E-2698-4F20-A7A7-78BAA14B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E440-6B2C-48AF-89A3-2AD32D46A1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блон през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edsovet.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Екатерина Горяй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Катенок</cp:lastModifiedBy>
  <dcterms:modified xsi:type="dcterms:W3CDTF">2012-12-02T16:48:50Z</dcterms:modified>
  <cp:revision>1</cp:revision>
  <dc:subject/>
  <dc:title>Шаблон презентации</dc:title>
</cp:coreProperties>
</file>